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B60-2441-40DB-81BE-FE5BF559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FC3-0B0F-45BC-91F0-D4E4915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3D1-B14E-4D6E-A442-808954A2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2E2-0ADF-4CBB-BE26-EF3633E2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55D9-670F-40FA-A2E6-70F09813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6CEE-7BDF-4B39-9929-1507964C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02B5-9C0E-4801-B071-A7B84AB2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F4403-C9FB-4515-8AA7-6AA0099B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004AE-4F2D-4259-84CD-9A3E374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31F76-F3D1-4CE8-8DF7-FC080107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7E008-540A-4C2D-A058-F226483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FEC-C448-4E1B-BD16-E63D534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E8DC9-3A15-41B4-B314-1E20A64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3BB56-92BC-4F10-A02B-DD2C861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ABB2F-36FC-422A-AC29-13ED8DD7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BFA4A-D375-40C7-BA5B-CB70B671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8475C-554B-470E-B6BF-1BD063E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E786-5623-4DB2-B387-22B77091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0FCF-4987-4341-A0F2-B7CA5805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797E-D5D5-4FD2-BC37-3B6D7FB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0060-574E-4B79-9C51-FE9992F7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2826-4464-411C-9A12-0603791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72F-D58D-4FBC-902A-1DFE6870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3FFC-A4CD-447E-9D56-54AF7C7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458F-C055-490B-9132-92990F2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F21D-AFEB-4A27-9F0B-5EFCE0C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DC1E-FB19-4E15-BDA4-2322CD8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AA87-2D5F-430E-B799-9D08D4D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95A3-BC99-4617-9CDD-0C5D94F9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E5C7-17F9-4E3A-AE4B-663F77B4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623-B989-449D-89C3-1C3095A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D94-6B6A-4646-A1CA-A57CC76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299-FA82-408E-A7A7-7EDAAEB9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1E1-6B74-4708-8191-3CE3E62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2C-E5F6-4F97-A52A-7A6F9AE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E72-ECFE-43DC-8F06-F1F40AD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5A1-8125-4C15-A34E-F7CFE88A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81B-FA0D-45D0-9B81-F993207B4D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E38F-7000-4586-AB66-9F6D67140A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763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Effects of Classroom Seating Arrangements 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n-Task Behavior and Academic 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n Action Research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By Danielle Ste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EDUC 702.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all 20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Theorists and Supporters of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row seat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McCorskey &amp; MCVetta, 1978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sk orientation is improv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Raviv, Raviv &amp; Reisel, 1990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459432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S: Arguments Supporting Cluster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ideal for socially facilitated learn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Patton, Snell, Knight &amp; Florman 200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promotes “innov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like each other more and communicate better when fa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o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O’Hare, 1998; Bovard, 1951)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4950000"/>
            <a:ext cx="289584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: Arguments Against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seating impedes a teachers ability to walk between student desks and assess learn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Weaver Dunne, 200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ment of the 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1: Changing the seating arrangement from cluster seating to paired columns over a four week period will increase the on-task behavior of 24 common branch second grade students at PS X during math class, and lead to increased scores on math assess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icip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wo second grade common branch classes in the NYCBO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ssroom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4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student repeating second gr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uster seating (4 groups of 6) 100% of the school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Three Unit T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udent surv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1: To be given to both classes prior to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2: To be given to both classes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urvey 3: To be given only to class one following action rese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nus, M., &amp; Riordan, L. (199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creasing student on-task behavior through the use of specific seating arrangemen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PS026868).  Chicago, IL: Saint Xavier University.  (ERIC Document Reproduction Service No. ED422129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ovard, E. Jr. (1951, Nov). The psychology of classroom interactio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Journal of Educational Research, 45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15-224.  Retrieved October 4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urke, K., &amp; Burke-Samide, B. (2004, July-August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quired changes in the classroom environment: It’s a matter of design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amaica, New York: Clearing House.  (ERIC Document Reproduction Service No. EJ70544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lahan, R.  (1962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 and the cult of efficiency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Chicago, IL: The University of Chicago pres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hurch, S.  (2004).  Learning Styles.  Message posted to http://www.teresadybvig.com/learnsty.ht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R. (1990, Octob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ita Dunn answers questions on learning styles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Jamaica, NY: Educational Leadership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J416423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unn, K, &amp; Dunn, R. (1975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, teaching style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NASSP Bulletin,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59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7-49.  Retrieved October, 25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lorman, J.  (Fall, 2003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Psychological &amp; quantitative foundations: Researching classroom seating arrangements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ctober 4, 2009, from The University of Iowa, College of Education Web site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education.uiowa.edu/edatiowa/fall03/department/pandq/index.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astings, N., &amp; Schwieso, J. (1995, December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asks and tables: The effects of seating arrangements on task engageme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in primary classroom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Nottingham, UK: Department of Primary Education. (ERIC Document Reproduction Service No. EJ514371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oneya, M. (1976, January 1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ocation and interaction in row-and-column seating arrangements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nvironment and Behavior, 8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265-282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ackney, J., &amp; Jacobs, P. (2002, Januar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achers as placemakers: Investigating teachers' use of the physical learning environment in instructional design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EF006078).  (ERIC Document Reproduction Service No. ED46364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Learning styles: Unblock your true potential. (n.d.).  Retrieved October 4, 2009, fr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ttp://www.learningstyles.net/index.php?option=com_content&amp;task=view&amp;id=20&amp;Itemid=70&amp;lang=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cCroskey, J. C., &amp; MCVetta, R. W. (1978).  Classroom seating arrangements: Instruc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mmunication theory versus student preferences [Electronic version]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ommunication Education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99-111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O’Hare, M. (Autumn, 1998). Classroom design for discussion-based teaching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Journal of Policy Analysis a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Management, 1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(4), 706-72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atton, J., Snell, J., Knight, W., &amp; Gerken, K. (2001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 survey study of elementary classroom seating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esign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40068).  Washington, DC: National Association of School Psychologist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IC Document Reproduction Service No. ED454194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roshansky, E., &amp; Wolfe, M.  (August, 1974).  The physical setting and open education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School Review, 8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56-574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aviv, A., Raviv, A., &amp; Reisel, E. (1990, Spring). Teachers and students: Two different perspectives?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easuring social climate in the classroom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1), 141-15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etrieved September 17, 2009, from the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chards, J. (2006, Winter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tting the Stage for Student Engagement.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Kappa Delta Pi Record.  (ERIC Document Reproduction Service No. EJ724640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idling, Z. (1994, April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he effects of three seating arrangements on teachers' use  of selective interactive verb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behaviors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Report No. SP035202).  New Orleans, LA: American Educational Research Association.  (ERIC Document Reproduction Service No. ED369757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lverstein, H., &amp; Stang, D. J. (June, 1976).  Seating position and interaction in triads: A field study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ociometry, 3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2), 166-170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rong-Wilson, T., &amp; Ellis, J. (2007, April)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Children and place: Reggio Emilia’s environment as third teacher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Montreal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Quebec: Theory Into Practice.  (ERIC Document Reproduction Service No. EJ755994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usi, F. D. (July, 1989). The physical environment of art classrooms: A basis for effective discipline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, 42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37-43.  Retrieved October 4, 2009, from JSTOR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nnarka, R., &amp; Ruhl, K. (2008, May 1).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Seating arrangements that promote positive academic and behavioural outcomes: 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mpirical research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Oxford, UK: Support for Learning.  (ERIC Document Reproduction Service No. EJ793728)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aver Dunne, D. (2001, April 4).  Do seating arrangements and assignments classroom management?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World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 Retrieved October 4, 2009, from http://www.education-world.com/a_curr/curr330.shtm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7, Summer).  Modifying student behavior in an open classroom through changes in the physic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esign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merican Educational Research Journal, 14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3), 249-262.  Retrieved October 4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einstein, C. (1979, Fall). The physical environment of the school: A review of the research.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view of Education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Research, 49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4), 577-610. Retrieved September 23, 2009, from the SAGE databas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A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prior to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Probl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Review of Related Litera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tatement of the Hypothesi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articipa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Instru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Experimental 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B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nd Class 2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near other people while I work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’t get my work done during math clas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endix C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udent Survey on Seating and Math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To be given to Class 1 after action research).</a:t>
            </a:r>
            <a:br>
              <a:rPr sz="4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Garamond"/>
              </a:rPr>
              <a:t>Directions: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Please write the number on the line that matches how you feel about the statement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Dis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Strong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re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Disagre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am good at math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get my work done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think that math is hard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rows better than group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get distracted by the people near me during math clas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eople near me distract me from my work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can work independently during math class when I sit in rows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 like sitting in groups better than rows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able of 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ferenc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-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endic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B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Appendix C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ement of th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rob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 X has adopted cluster seating for all classrooms, 100% of the school day.  Independent math practice at PS X is complicated by off-task behavior and would benefit from a less distracting seating arrangement, such as paired colum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18018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Importance of Seating Arrange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ain cause of off-task behavior is classroom seating arran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onus &amp; Riordan, 1998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m arrangement affects the  learning process, student behavior, and student engageme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Florman, 2003; Lackney &amp; Jacobs, 2002; Proshansky &amp; Wolfe, 1974; Richards, 2006; Strong-Wilson &amp; Ellis, 2007; Susi, 1989; Weinstein, 1977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600200" cy="139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5240160"/>
            <a:ext cx="1600200" cy="13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-task behavior increases with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Hastings &amp; Schwieso, 1995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prefer orderliness and clear views of the teach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Raviv, Raviv &amp; Reisel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learners prefer to learn alone or with one part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Burke &amp; Burke-Samide, 2004; Church, 2004; Dunn &amp; Dunn, 1975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ing style is 60% biologic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Dunn, 1990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S: Research Supporting Row Se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w seating reduces tal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oneya, 1976; Ridling, 1994; Silverstein &amp; Stang, 1976; Wannarka &amp; Ruhl, 2008; Weinstein, 1979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1900’s the business model entered the American education system based on the German model of efficienc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Callehan, 1962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4648320"/>
            <a:ext cx="28954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 of Related Liter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S: Problems With Cluster Seat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roximity increases likelihood of off-task convers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Koneya, 1976; Ridling, 1994; Weinstein, 1979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4853160"/>
            <a:ext cx="2106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22:55:40Z</dcterms:created>
  <dc:creator>Danielle Steger</dc:creator>
  <dc:description/>
  <dc:language>en-US</dc:language>
  <cp:lastModifiedBy>Danielle Steger</cp:lastModifiedBy>
  <dcterms:modified xsi:type="dcterms:W3CDTF">2009-12-16T06:22:43Z</dcterms:modified>
  <cp:revision>107</cp:revision>
  <dc:subject/>
  <dc:title>The Effect of Classroom Seating Arrangements on On-Task Behavior and Academic Performance</dc:title>
</cp:coreProperties>
</file>